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CAB-931E-4F70-B62D-8F22FA90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90E-2C2D-40FB-874E-6604EC7F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1F5-0145-4AFE-8D82-DC222C08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3E6-EA35-499F-B4CF-5ABDB122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434-BEE9-49F8-B45A-A3651EF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331-A34A-4BDB-BE1C-F0BC296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29D-13F2-459B-A84D-497CB65A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D45-294B-4C22-8278-5818219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B15-D389-45DF-B7F1-47F66E0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5F1-CFDF-4B47-A467-9BCC325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870-54CC-4A67-AC3A-87D8693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A46-5B64-4578-B387-E71E6C9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4B0-6683-4865-B584-3B1F2BB44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C. Linear Programming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What is a linear programming problem?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40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set of variables (in Further Maths there will only ever be two variables) called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decision variables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set of restrictions or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constraints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n the value of these variabl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function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(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objective function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) of these two variables. We will want to either make this function as large as possible (maximise) or as small as possible (minimise)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will only be two decision variables, so they can be graphed on x- and y- ax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constraints are expressed as a set of inequations, like those in Ex 11B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constraints are graphed and the solution region will be a polygon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objective func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objective function is a function of the two decision variables usually related to cost, distance, or some other relationship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maximum or minimum of the objective function occurs at one of the vertices (corner points) of the solution region polyg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Worked exampl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ork through Worked Examples 6, 7, 8 on p.532-535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 try Ex 11C, Q.1, 2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ollow Worked Example 9 on page 536, then try Ex 11C, Q. 5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ollow Worked Example 10 on page 538, then try Ex 11C, Q. 7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ish with Ex 11C, Q. 8, 9, 10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2:27:28Z</dcterms:created>
  <dc:creator>08843474</dc:creator>
  <dc:description/>
  <dc:language>en-US</dc:language>
  <cp:lastModifiedBy>08843474</cp:lastModifiedBy>
  <dcterms:modified xsi:type="dcterms:W3CDTF">2011-06-20T08:54:45Z</dcterms:modified>
  <cp:revision>4</cp:revision>
  <dc:subject/>
  <dc:title>11C. Linear Programming</dc:title>
</cp:coreProperties>
</file>